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D14-BD77-42DA-ADF9-C2B2FC5B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609-3AEC-4ECF-B77D-A58AF591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2C3-339E-4597-ABB3-62F47162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AFA-6867-4195-84D2-BE31CFDA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3D1-B06D-498C-826C-5E8B6235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082-C25A-4B3D-8919-9CE8BB14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B9C-25B0-46E4-B002-A968541B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0C4-3F94-4309-B7F1-383E62A9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DB45-6178-4EBB-B3DF-C700FFBB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9C0E-3F4F-4F76-AF39-97ECD977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1E7-32AF-4971-8328-8ABF52B1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EE9-B7AF-4B58-B459-FC7D1CF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BC34-3DCD-4549-BEB6-D2AC948F3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1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48040" y="1719360"/>
            <a:ext cx="3247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Sta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97280" y="1600200"/>
            <a:ext cx="33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 F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623960" y="1600200"/>
            <a:ext cx="589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Winston Churc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462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5 Benito Mussoli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2683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Tru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48164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5:30:43Z</dcterms:created>
  <dc:creator>Technology</dc:creator>
  <dc:description/>
  <dc:language>en-US</dc:language>
  <cp:lastModifiedBy>Technology</cp:lastModifiedBy>
  <dcterms:modified xsi:type="dcterms:W3CDTF">2010-02-17T15:31:02Z</dcterms:modified>
  <cp:revision>1</cp:revision>
  <dc:subject/>
  <dc:title>Slide 1</dc:title>
</cp:coreProperties>
</file>